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C24-E83B-4A56-9A94-4819D2E8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C80-92F7-4F26-8370-E4F5A32E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A253B-890F-459D-9860-FD255B5B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3906C-BD4A-4F6E-B70A-C153A24A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1CE30-3F47-43D4-AB6B-CE1D2334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8039A-4A66-4093-8DAF-FAB1010D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B09F4-585C-454E-B28B-86DC14B0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D0072-8653-4E9A-AEC6-E8F88068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D020D-C4C1-4F3D-BC7D-E7D73415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10D97-7F4F-4055-800B-1D6B5F8A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A8F05-B2EA-491F-ACC3-4B8ED829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42562-2D80-4233-953C-95051D11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AB4-7E97-4261-9FEF-EED4D50F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EDD90-C81E-483C-BA93-D410511D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66949-2535-44C0-994A-A28DE90B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19D01-280B-4DB2-9A42-3B050BC8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3FB5F-B55D-489D-93DE-54D4AC6E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47D4F-9EBD-4F6B-8A5F-CFB9FAF2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B1BF9-BB53-43D5-B310-25AD53EE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DBBF1-CCE9-4CFB-A04B-0007C036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ED686-C816-4F31-ACB1-17513B87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9AAAC-4D7F-4EB0-97A4-C1B778A5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8CDC8-D716-4D73-A54B-39FB2A54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C5D-793F-4195-B373-1783FCAE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3FB0A-C60B-4E33-9B71-4C0E03BB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E8BC5-1A83-4379-BEA9-B7122E60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BA1B6-0E65-4F0E-9E71-482C75CB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2BDF0-1914-4245-A80D-59815FE8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DCEA8-A139-4F73-991D-D4C64715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B867B-6FA0-4BF7-A473-C8A6632E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132DB-1539-46FA-B23B-3017C90A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5C5EE-A3BD-4EC2-8A69-8C210C76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BBA9E-7358-4520-B7B0-4409CA43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ED621-44F9-46FC-AE67-7067CD62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0D76-F053-4BAA-919E-495A4648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392BA-A7CE-430C-AA73-60DB3125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BCB66-F12D-436B-8584-0FDD8B37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7FB1F-11DC-4BF7-9929-BBFBA8DC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85BD1-2BD3-4E61-A372-078454F9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C25AD-A51F-41CB-A17F-843D6D13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7CB72-347C-42ED-AEAE-8635CE2A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58AF2-F525-4D88-9777-E2B45822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B1258-0C65-4A58-8C90-62A2954C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1E733-23B3-410A-8A82-694FB3CC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F3EC4-F79C-42CF-B8F9-C47FA0C4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22B5-73D8-4858-9D1F-2A319D26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A38B0-6E46-47B8-9F2F-552D02E0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72D55-078C-4139-B23B-2EB528EB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82AD3-A0D2-4DBF-8BB6-FEBEF29C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985E5-B2C9-4977-977A-D56C97C8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CBE63-ADE9-4C4A-86F6-F842D62D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A552-FAC5-4573-8A14-97E14A30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F8B8-94B4-482C-A303-63D2E9A1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75A6-09F2-4CF4-A65F-B51E3BFD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7332-93C2-412F-B916-21EB192A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E378-22B3-4831-83AB-7A19B587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C71-9FF5-4064-B0D1-813D874A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0660-A8DD-4BF7-8C0E-C792975C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78AA-2CDE-4E7A-8496-243A9D41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ED85-9F10-46D9-B786-0241ACA5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5AA7-70A2-4699-A58B-6F555FBA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00F7-F3E3-4539-8C30-E67AAB4B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3FACA-0A46-4FBE-93FF-FFC45149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9DC82-94B0-4D3E-AE14-EA1B9D43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7CE48-2ACC-411E-964A-D942AECF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4981-1AA6-4638-A12B-5F79F9EB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F540-429F-4ABA-85EB-C1E44579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4D4-2DBE-47D2-A3F1-D9361B25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64CC3-9939-4862-B375-AB9CEF8D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1CCD6-97CD-43C8-8F50-8E4636B9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866A-E14B-45E7-B9D5-69B1796C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BF05-E528-4949-89B4-BD732B0E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2CFAB-1C82-4B81-AE5F-72D91523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9394-B92F-4D5D-917C-294A6929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954B-29F8-4EFE-AC4B-5634D474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11AD9-23FA-4F50-95A2-A1D5F1D5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6789-5936-4C07-B358-89C957BF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91C8-35E5-4BAE-B875-01C188DE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A71-8FFE-48C6-B095-433A699F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B2037-CD4F-46FE-9389-CFFC8FE5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BD2FE-B57C-4E96-870E-4408CA9A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ECA0B-7315-4D1E-8237-A2D366ED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F98DB-EFD7-4CED-AD91-5D80B59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6656E-4595-4F8B-9B05-43E5060F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52180-6B1F-4EF9-B9DD-D19DED0F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3298C-E43E-4547-BA8B-25A8AD8F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89407-953B-489A-AFA1-B46F489B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32DC-7BC9-4086-A5EC-590FC26A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F443E-DA02-46A7-A073-42F089E9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602-8C01-4C30-954D-3CD4DB6F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07C58-A1B4-4835-B2F0-37ADF98D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34400-BFB2-45C5-8AB7-CA148CC3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5179-145C-43AB-A350-5BEF7CC4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9BAAA-7714-4786-9222-D415AA09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2FD03-5F3B-428B-A027-C8155F09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504CC-892D-42F6-9EBE-B411068F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28061-E876-42C8-9F65-A36B0488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569E-0B55-4E2A-BCEB-1061DFC0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F1116-897D-466C-8DFE-827E652B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5A12C-0EC9-4599-A2A5-56343E1E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FC5-9438-4701-B8C9-ED709046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CE3BB-AB27-4ABC-AAF2-E398BE1B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92480-45DD-489F-9A30-C0CADE60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0DE61-E406-4401-ABD7-15FDE136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153B4-BDF5-4785-81C8-A2B1AAD8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A3EB6-575B-442E-8D34-3F28C296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75F19-789E-4F27-8582-7DE12B3A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3E1FF-3809-43CC-925A-FE0D558A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F9C1B-B865-461F-A685-52FDF058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12211-3CDD-40F9-9E15-ED9701FA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EAA83-62AD-4E31-99C6-5B4D34C2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4DE-E677-462C-B944-D95FC960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AB9A3-A1A8-4C01-A05F-D305D387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7D7C1-FBD2-4BCF-9280-4414112A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D2D05-8DA1-4B03-9A5F-371C9519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CBED6-4A1D-476A-A430-1A4FA087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CE749-99B5-46F5-8425-F9FB3DF6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DF631-FB50-44D7-B4CB-B87DDBB0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11A0C-FD98-460A-9B9B-74481BB0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5085B-1619-4EBA-822D-599E0D3C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233BF-1526-4906-AD9A-02A192F6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E374F-64D1-4293-BE55-906E3465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216-B39A-416B-91D8-9398AB01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0E3E3-B518-4CE8-8A59-DADC2103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17BD9-1A12-44D7-BBBB-5313532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DC336-BA56-4713-867D-5810B127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63294-B810-4D90-9644-654231EB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11BB0-7B77-4552-A9F3-55196820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BEFCE-E1B8-49B4-B632-AD69B635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483DE-FF46-40B0-8C78-5A561BE9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F06FD-3A82-4304-9542-D87EC801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47B6F-780D-4155-A499-77B675AF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921A8-35D1-404B-8A90-031E4F20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C26-73BA-4D66-BE4A-45951A3C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1F1EC-056D-424A-82F2-B938E5CF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4E98F-1BB8-442F-9E5A-241811C8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0FBD0-C0CE-4C8E-8BDF-E9B5F69E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E3380-2132-4F8B-9FD5-EC472ACC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E5BF0-D7F8-4276-BB31-5349678B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74E51-D6D5-49FC-94BA-F2C6D313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874FF-69A4-461D-875F-D6989875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EC30F-F628-497E-9F2A-F061789F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3B473-D4E0-43B7-B160-54FEBDA8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82251-F271-4EDF-8242-7745958F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A08E-CC2E-4247-97BF-058171FF90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BF0C-B2FA-45CD-A0D0-3C61E3C48C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496C-2400-4B2A-84B2-A89485527DF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A979-310C-47BE-8FBF-1008D2FB94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17C1-5B61-4B07-888B-F4CF20DA3D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50D2-B911-48F9-9792-9F8E43CCC1D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39EF-3AC8-4C5B-9CA6-90DDFB71C9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4F41-9969-4095-9CA0-E31366B097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4AB2-D7BF-4396-A95A-D7B64DF34A6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AF3E-C98E-4AD4-A333-4339C84DFC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9C61-2401-4CD3-BD23-84133B3825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C893-570F-4A7A-BEC5-60031A8720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76 K tebe, Pane, na výsos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, Pane, na výs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hľad viery upier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bo ty ma v každej stra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tešíš, keď zomdlieva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ou svojou usmer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priek zloby nástra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stou spásy vedieš k cieľ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ch, čo v teba dúfaj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čo v boji nádej smel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tvojho Slova čerp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ich pred zlom ochráni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, keď k tebe vol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hoc by sa aj zem chve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 sa rúcal odvek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a svojho spásy diel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vzdáš, Pane, navek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zraela ty si strá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e mocný, preveľk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, Pane, obstáť v boj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víťazstva slávn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 tvoja o nás stoj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e strážcu ver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čo sľúbiš, splníš rá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dľa slova daného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21:25Z</dcterms:modified>
  <cp:revision>21</cp:revision>
  <dc:subject/>
  <dc:title>Je veľký náš Pán, on slávy je Kráľ Nech do všetkých strán  spev vrúcnych znie chvál.</dc:title>
</cp:coreProperties>
</file>